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B73-58BA-4C80-B632-D1C6426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05A-DE84-4DCA-B5F5-F5E6C413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0E8-50E6-47A5-A711-15BC227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C7E-E2BD-4622-AFD4-9ADFECC5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593-63FA-4ADF-B4B4-45F9BFDB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1B2-D4D1-4C37-9F64-84EE73A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C08-312C-40DF-A818-EA414E9F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33B-553D-499D-B2C5-C33DDF8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705-6751-45CB-8371-163634CD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585-9CE2-47CC-A4A9-921E529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A26-325E-4C53-BD43-52DFE05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E4D-C2E4-4FC8-AAC3-1654802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1935-2869-4A0B-BF5A-EAE2443B1E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3962520" y="106668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putting a plant under red, green, or blue light make it grow tall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krose\Local Settings\Temporary Internet Files\Content.IE5\SXURO1E3\MMj03181880000[1].gif"/>
          <p:cNvPicPr/>
          <p:nvPr/>
        </p:nvPicPr>
        <p:blipFill>
          <a:blip r:embed="rId1"/>
          <a:stretch/>
        </p:blipFill>
        <p:spPr>
          <a:xfrm>
            <a:off x="4362480" y="3143160"/>
            <a:ext cx="41904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krose\Local Settings\Temporary Internet Files\Content.IE5\SXURO1E3\MMj03181880000[1].gif"/>
          <p:cNvPicPr/>
          <p:nvPr/>
        </p:nvPicPr>
        <p:blipFill>
          <a:blip r:embed="rId2"/>
          <a:stretch/>
        </p:blipFill>
        <p:spPr>
          <a:xfrm>
            <a:off x="7620120" y="2286000"/>
            <a:ext cx="145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ariables and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7144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g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2 typ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4267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/>
          <p:nvPr/>
        </p:nvCxnSpPr>
        <p:spPr>
          <a:xfrm>
            <a:off x="2666520" y="1600200"/>
            <a:ext cx="1080" cy="452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(I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52320" y="5335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hing you change on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 “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l” change thi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You have a metal coffee cup and a paper coffee cup.  You want to see which one stays the hottest after 5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he IV is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               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Calibri"/>
              </a:rPr>
              <a:t>type of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coffee c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AutoShape 7"/>
          <p:cNvCxnSpPr/>
          <p:nvPr/>
        </p:nvCxnSpPr>
        <p:spPr>
          <a:xfrm>
            <a:off x="2895120" y="533160"/>
            <a:ext cx="1080" cy="55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6" name="Picture 8" descr="MCSO02021_0000[1]"/>
          <p:cNvPicPr/>
          <p:nvPr/>
        </p:nvPicPr>
        <p:blipFill>
          <a:blip r:embed="rId1"/>
          <a:stretch/>
        </p:blipFill>
        <p:spPr>
          <a:xfrm>
            <a:off x="6934320" y="1447920"/>
            <a:ext cx="1711080" cy="157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8153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50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2320" y="457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“set-up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levels of IV in our coffee cup experiment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metal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aper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7"/>
          <p:cNvCxnSpPr/>
          <p:nvPr/>
        </p:nvCxnSpPr>
        <p:spPr>
          <a:xfrm>
            <a:off x="3047760" y="456840"/>
            <a:ext cx="1080" cy="566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MCFD00042_0000[1]"/>
          <p:cNvPicPr/>
          <p:nvPr/>
        </p:nvPicPr>
        <p:blipFill>
          <a:blip r:embed="rId2"/>
          <a:stretch/>
        </p:blipFill>
        <p:spPr>
          <a:xfrm>
            <a:off x="3581280" y="4495680"/>
            <a:ext cx="1136880" cy="174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3"/>
          <a:stretch/>
        </p:blipFill>
        <p:spPr>
          <a:xfrm>
            <a:off x="6705720" y="4572000"/>
            <a:ext cx="17967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(D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4960" y="6858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 you mea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 carefu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DV in our coffee cup experimen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emperature of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of Measur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e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units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your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7"/>
          <p:cNvCxnSpPr/>
          <p:nvPr/>
        </p:nvCxnSpPr>
        <p:spPr>
          <a:xfrm>
            <a:off x="3123720" y="609120"/>
            <a:ext cx="1080" cy="579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7" name="Picture 11" descr="MCj02383890000[1]"/>
          <p:cNvPicPr/>
          <p:nvPr/>
        </p:nvPicPr>
        <p:blipFill>
          <a:blip r:embed="rId1"/>
          <a:stretch/>
        </p:blipFill>
        <p:spPr>
          <a:xfrm>
            <a:off x="6781680" y="4191120"/>
            <a:ext cx="2105280" cy="19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88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1240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57200" y="1523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0040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sta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20040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he experiment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need const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MPj03998350000[1]"/>
          <p:cNvPicPr/>
          <p:nvPr/>
        </p:nvPicPr>
        <p:blipFill>
          <a:blip r:embed="rId1"/>
          <a:stretch/>
        </p:blipFill>
        <p:spPr>
          <a:xfrm>
            <a:off x="6692760" y="320040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2"/>
          <a:stretch/>
        </p:blipFill>
        <p:spPr>
          <a:xfrm>
            <a:off x="81532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3124080" y="2057400"/>
            <a:ext cx="4114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tarting Temp of </a:t>
            </a:r>
            <a:br>
              <a:rPr sz="2400"/>
            </a:b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Experi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Volume of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24080" y="44197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Not So 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:  The difference between the IV and the DV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important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"/>
          <p:cNvPicPr/>
          <p:nvPr/>
        </p:nvPicPr>
        <p:blipFill>
          <a:blip r:embed="rId3"/>
          <a:stretch/>
        </p:blipFill>
        <p:spPr>
          <a:xfrm>
            <a:off x="3276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6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mount of sugar in soda (diet soda vs regular soda) affect the number of cavities you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krose\Local Settings\Temporary Internet Files\Content.IE5\OXE3K9I7\MCj04079300000[1].wmf"/>
          <p:cNvPicPr/>
          <p:nvPr/>
        </p:nvPicPr>
        <p:blipFill>
          <a:blip r:embed="rId1"/>
          <a:stretch/>
        </p:blipFill>
        <p:spPr>
          <a:xfrm>
            <a:off x="7391520" y="0"/>
            <a:ext cx="1295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length of a plane wing (3 cm, 5 cm and 7 cm) affect the distance it fl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krose\Local Settings\Temporary Internet Files\Content.IE5\OXE3K9I7\MMAG00295_0000[1].gif"/>
          <p:cNvPicPr/>
          <p:nvPr/>
        </p:nvPicPr>
        <p:blipFill>
          <a:blip r:embed="rId1"/>
          <a:stretch/>
        </p:blipFill>
        <p:spPr>
          <a:xfrm>
            <a:off x="0" y="4786200"/>
            <a:ext cx="908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ge of a basketball (brand ne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onths old, 4 months old) affect how high it bou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krose\Local Settings\Temporary Internet Files\Content.IE5\OXE3K9I7\MMj03957040000[1].gif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48:05Z</dcterms:created>
  <dc:creator>Jean Kavanagh</dc:creator>
  <dc:description/>
  <dc:language>en-US</dc:language>
  <cp:lastModifiedBy>Jean Kavanagh</cp:lastModifiedBy>
  <dcterms:modified xsi:type="dcterms:W3CDTF">2009-09-08T21:40:08Z</dcterms:modified>
  <cp:revision>53</cp:revision>
  <dc:subject/>
  <dc:title>Variables, Constants and Controls</dc:title>
</cp:coreProperties>
</file>